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ADD5-6541-4A99-96E8-524C57B9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7F6A-B83E-4F93-A7A8-C3C298C5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97E-E3F3-4AC6-B4F6-98A2A883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A83-A2B3-415E-A18F-D71FE7AB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F6E0-C51F-4286-97D7-77E2CB7F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A30B-0584-455D-954F-9E72595B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A0FA-C415-47CB-87EF-AFE00D28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B3DE-44F4-4676-AF31-F09994B4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BA91-4FC1-45E9-9B7B-56765E38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6608-01EC-43EF-A0B4-5DDCC08B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0938-FEA0-4086-AAEA-C7F0DF0D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AA77-8769-480C-BFBF-0C780FE9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846A-A780-4497-BCAA-5C765E70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C583-300C-4178-8BD2-7AE3CC75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6848-4B99-430D-A1A7-3D683369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0014-E92D-42FC-A0A8-64C36F2C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044E-CA77-4524-B900-75894F00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307F-5432-4A2A-897C-DBFF6E82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900F-40C0-4D41-B79A-0705696F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F9D8-71F4-4357-8462-AD88684F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2CF3-34F9-40C7-84C2-6335DC0A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90D9-B638-4D00-98B3-70B9A8DC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DF7-8A98-4103-AF45-E9B0A908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A792-7122-4D52-A2DA-D376468E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AC32-2DC7-45C9-960D-788F7DCF89A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D672-423B-45D7-B969-4B611A0171E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i Magnifico </a:t>
            </a:r>
            <a:r>
              <a:rPr b="0" lang="es-ES" sz="4000" spc="-1" strike="noStrike">
                <a:solidFill>
                  <a:srgbClr val="f7d47d"/>
                </a:solidFill>
                <a:latin typeface="Arial"/>
              </a:rPr>
              <a:t>Indio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Cas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52120" y="914040"/>
            <a:ext cx="480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r: Sarah Jebashak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7505640" cy="50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s Una Cocina</a:t>
            </a:r>
            <a:br>
              <a:rPr sz="4000"/>
            </a:b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Mi Cosina es bella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90720" y="1838160"/>
            <a:ext cx="7315200" cy="49546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07920" y="282600"/>
            <a:ext cx="2652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l Cuatro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99840" y="8380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i Cuatro es estupend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7010280" cy="52516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553080" y="5095800"/>
            <a:ext cx="2590920" cy="1762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10800" y="487440"/>
            <a:ext cx="345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Mi Baño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3962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i Baño es </a:t>
            </a:r>
            <a:r>
              <a:rPr b="0" lang="es-ES" sz="3200" spc="-1" strike="noStrike">
                <a:solidFill>
                  <a:srgbClr val="2f1311"/>
                </a:solidFill>
                <a:latin typeface="Arial"/>
              </a:rPr>
              <a:t>azu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i  Comedo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i Comedor es un  </a:t>
            </a:r>
            <a:r>
              <a:rPr b="0" lang="es-ES" sz="3200" spc="-1" strike="noStrike">
                <a:solidFill>
                  <a:srgbClr val="2f1311"/>
                </a:solidFill>
                <a:latin typeface="Arial"/>
              </a:rPr>
              <a:t>relajante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914400" y="2398680"/>
            <a:ext cx="6610320" cy="44593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i </a:t>
            </a:r>
            <a:r>
              <a:rPr b="0" lang="es-ES" sz="4000" spc="-1" strike="noStrike">
                <a:solidFill>
                  <a:srgbClr val="f7d47d"/>
                </a:solidFill>
                <a:latin typeface="Arial"/>
              </a:rPr>
              <a:t>Jardí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76080" y="1676520"/>
            <a:ext cx="547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s un jard</a:t>
            </a: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í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 es un magn</a:t>
            </a: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í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ice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6543720" cy="46753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 Sal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i sala es un </a:t>
            </a:r>
            <a:r>
              <a:rPr b="0" lang="es-ES" sz="3200" spc="-1" strike="noStrike">
                <a:solidFill>
                  <a:srgbClr val="2f1311"/>
                </a:solidFill>
                <a:latin typeface="Arial"/>
              </a:rPr>
              <a:t>espacioso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609480" y="2303640"/>
            <a:ext cx="6858000" cy="4554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i Pati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362320" y="53352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i patio es un </a:t>
            </a:r>
            <a:r>
              <a:rPr b="0" lang="es-ES" sz="3200" spc="-1" strike="noStrike">
                <a:solidFill>
                  <a:srgbClr val="2f1311"/>
                </a:solidFill>
                <a:latin typeface="Arial"/>
              </a:rPr>
              <a:t>gra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914400" y="177804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i Garaj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i garaje es un fabulos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6476760" cy="4713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3:06:52Z</dcterms:created>
  <dc:creator>jebashakersar</dc:creator>
  <dc:description/>
  <dc:language>en-US</dc:language>
  <cp:lastModifiedBy>jebashakersar</cp:lastModifiedBy>
  <dcterms:modified xsi:type="dcterms:W3CDTF">2012-10-25T17:28:06Z</dcterms:modified>
  <cp:revision>7</cp:revision>
  <dc:subject/>
  <dc:title>Mi Magnifico Casa</dc:title>
</cp:coreProperties>
</file>